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5763-18FC-4162-96C8-C03B431B1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86;&#1090;&#1086;" TargetMode="External"/><Relationship Id="rId2" Type="http://schemas.openxmlformats.org/officeDocument/2006/relationships/hyperlink" Target="http://ru.wikipedia.org/wiki/&#1071;&#1087;&#1086;&#1085;&#1080;&#1103;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80;&#1097;&#1077;&#1074;&#1072;&#1088;&#1080;&#1090;&#1077;&#1083;&#1100;&#1085;&#1072;&#1103;_&#1092;&#1077;&#1088;&#1084;&#1077;&#1085;&#1090;&#1072;&#1094;&#1080;&#1103;&amp;action=edit" TargetMode="External"/><Relationship Id="rId2" Type="http://schemas.openxmlformats.org/officeDocument/2006/relationships/hyperlink" Target="http://ru.wikipedia.org/w/index.php?title=&#1056;&#1080;&#1089;&#1086;&#1074;&#1086;&#1076;&#1089;&#1090;&#1074;&#1086;&amp;action=edit" TargetMode="External"/><Relationship Id="rId3" Type="http://schemas.openxmlformats.org/officeDocument/2006/relationships/hyperlink" Target="http://ru.wikipedia.org/wiki/&#1041;&#1080;&#1086;&#1084;&#1072;&#1089;&#1089;&#1072;" TargetMode="External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2DE2-F406-43CF-8C29-C04BA55613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Последствия парникового эффекта для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климат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не можем точно сказать к каким изменениям климата может привести глобальное потепление. Однако, 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 мнению многих ученых, если сохранится тенденция глобального потепления, это приведет к изменению погоды и увеличению количества осадков, что, в свою очередь, приведет к подъему уровня Mирового оке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ША и бывшем СССР последние 30-40 лет выпадает осадков на 10 процентов больше, чем в прош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то же время, количество осадков над экватором сократилась на те же десять процен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2A9C-D8DD-41C2-A657-DE25E19B5B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Наиболее благоприятные условия для выращивания культур сложатся в сельскохозяйственных регионах России и обильные осадки будут выпадать в Северной Африке, где засуха продолжается с 1970-го года. Кроме того, повышение температуры увеличит испарение влаги с поверхности океана. Это приведет к увеличению выпадения осадков на 11 проц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ствия потепления климата будут ощущаться на Северном и Южном полюсах, где увеличившаяся температура приведет к подтаиванию ледников. По расчетам ученых увеличение температуры на 10 градусов по Цельсию, вызовет повышение уровн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рового океана на 5-6 метров, что приведет к затоплению многих прибрежных территорий во всем ми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9E93-8445-4EB7-B348-C41B8D02DA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Уже сегодня мы сталкиваемся с участившимися климатическими  аномалиями. Это и всё более сильные ураганы и штормы, наводнения, засуха, выпадание снега там, где его никогда не ждали, необычайно тёплые зимы в северных широт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EA65-53D9-4B11-A366-E2A667BAEC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чувствительными к потеплению климата являются ледн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едник Упсала в Патагонии (Аргентина) был одним из самых больших ледников Южной Америки, но теперь исчезает на 200 метров в г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5977-F06B-4813-8535-499CD0D37E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6CC1-59D1-47D4-8B3F-A3BC422DF7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B2B8-81BE-450B-BCD8-602F4514D1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влияния парникового эффекта на климат земли является одной из важнейших задач, требующих скорейшего решения. Начальным этапом решения проблемы стали международные договорённости по сокращению выбросов парниковых газов в атмосфе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5A54-1270-4C2C-B675-C27AC7239C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международный документ, принятый в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иот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Япо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в декабре 1997 года в дополнение к Рамочной конвенции ООН об изменении климата . Период подписания протокола открылся 16 марта 1998 года и завершился 15 марта 199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9EF4-9B57-48D6-B12C-E6435950CC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етали согла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иотский протокол стал первым глобальным соглашением об охране окружающей среды, основанным на рыночных механизмах регулирования — механизме международной торговли квотами на выбросы парниковых газ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н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ц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Протокола определили для себя количественные обязательства по ограничению либо сокращению выбросов на период с 1 января 2008 до 31 декабря 2012 года. Цель ограничений — снизить в этот период совокупный средний уровень выбросов 6 типов газов (CO2, CH4,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гидрофторуглеводороды, </a:t>
            </a: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перфторуглеводород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N2O, SF6) на 5,2 % по сравнению с уровнем 1990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FF25-BDAE-419A-B2B3-B3993526A5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я Киотского проток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состоянию на 14 февраля 2006 года Протокол был ратифицирован 161 страной мира (совокупно ответственными за более чем 61 % общемировых выбросов). Заметным исключением из этого списка являются СШ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FB9C-75A7-40AE-A623-738D799D91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арниковый эффек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й эффект. Как он действу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е га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парникового эффекта на климат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  мифов о глобальном потеп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4038-7460-48F1-BD32-6A7381D819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Человек с древних времен склонен верить мифам. Часть из них не лишена логики, но все таки большая половина оказывается полным бредом. То же самое и с </a:t>
            </a:r>
            <a:r>
              <a:rPr b="1" lang="en-US" sz="1200" spc="-1" strike="noStrike">
                <a:solidFill>
                  <a:srgbClr val="3399ff"/>
                </a:solidFill>
                <a:latin typeface="Arial"/>
              </a:rPr>
              <a:t>глобальным потеплением</a:t>
            </a: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. Вот распространенные заблуждения, связанные с ним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). Глобального потепления вообще не происходи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К сожалению происходит. Наукой не раз доказано, а фактами подтверждено, что температура быстро раст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). Глобальное потепление - естественный процес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корее всего нет (повышение температуры, особенно с 70-х годов, намного превышают естественные изменения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). В любом случае последствия будут постепенным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ильные штормы становятся все чаще, а историей доказано, резкое изменение климатических условий может наступить внезапно, буквально за несколько л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B53C-48E7-4842-B24F-B7034BB6A8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). Глобальное потепление приведет к всемирному пото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потепление будет идти теми же темпами, то уровень мирового океана поднимется на 1 метр. Если же допустить, что все ледники растают, что конечно же невозможно, то вода поднимется на 10 метров. И если учесть, что средняя высота суши над уровнем океана - 840 метров, то переживать так сильно по поводу затопления не сто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). Глобальное потепление - единственная причина резких, непредсказуемых изменений пог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леко не единственная. Существует ряд естественных, циклических процессов, к которым глобальное потепление не имеет никакого отношения. И именно они являются тем, что может вызвать резкое потепление или похолодание. Такими факторами могут послужить океанские течения, циклоны, изменение магнитного поля Земли и просто совпа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5B60-307B-4237-B9C7-DE54FB8BE1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). Выбросы углекислого газа слишком незначительны, чтобы спровоцировать глобальное потепление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отелось бы верить, но пока факты это отрицают. По статистическим данным, которым можно доверять были построены графики концентрации углекислого газа в атмосфере и температуры в это время. Они совпад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). Из-за глобального потепления температура скоро вырастет настолько, что мы все погибнем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 настолько и не скоро. За последние 100 лет температура выросла на 0,7°С, - 1° С. И по самым смелым прогнозам в ближайшие 100 лет может вырасти еще на 4,6° С, но скорее всего это увеличение не превысит 2°С. С меньшей вероятностью, но есть модели, предсказывающие да же похолод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). От глобального потепления мы получим только вы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некоторых районах можно будет порадоваться необычно теплой погодой, но цена негативных последствий превысит любые выгоды. Число болезней и смертей из-за жары выраст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C567-A199-4644-B821-DCAFE23993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). Сельскому хозяйству это будет только на ру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глекислый газ может повысить урожайность ряда культур, но так же возрастет и количество сорняков и вредителей. Растения не смогут хорошо расти на том же месте из-за климатического сдви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). Правительство о нас позаботи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мимо прянятия Киотского протокола (который только ограничивает выбросы) несколькими странами, исключая США (крупнейший источник вредным выбросов) больше ничего сделано не было. Правительства боятся экономических последствий борьбы с глобальным потеп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). Проблема не так серьезна, как национальная безопас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у как посмотреть. Если учесть, что потепление затронет каждого жителя планеты (при чем больно ударив по нему), то думаю будет посерьез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). Причины глобального потепления известны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ногие верят, что в глобальном потеплении полностью виновен человек и что только остановив промышленную деятельность, можно избежать катастрофы. В действительности же проблема изменения климата настолько нова, что сейчас невозможно с точностью сказать о ее причинах. То, что оно происходит - это факт, но то что это результат антропогенной деятельности человека далеко не единственная версия. Так, например, существует версия, что это результат естественных процессов, происходящих в системе Солнце - Земля - Космо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46A2-65BE-4E11-8F32-D4619DC3FD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). Мы знаем, как бороться с глобальным потеплением, у нас есть техноло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тегический план находится в разработке. Существует несколько масштабных вариантов борьбы с глобальным потеплением, но все они из области фантастики, да и требуют колоссальных вложений, сравнимых с бюджетом США, но лучше много мелких изменений, чем одно больш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). Мы не можем ничего с этим подел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ждый уже сейчас может внести свой вклад в борьбу с глобальным потеплением хотя бы просто соблюдая рационализм в своей потребительск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D0B3-688E-4718-8AF1-2BAA72A9A8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лючении хочется отметить, что существует версия, о том, что влияние парникового эффекта на глобальное  потепление климата не так значительно, а нынешнее потепление – это лишь очередной этап в циклическом изменении климата нашей планеты. Ведь не стоит забывать, что по геологическим меркам последний ледниковый период на Земле был не так уж и дав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0DCC-0530-436F-B658-090C9B7A2E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арниковый эффек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арнико́вый эффе́к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повышение температуры нижних слоёв атмосферы планеты по сравнению с эффективной температурой, т. е. температурой теплового излучения планеты, наблюдаемого из косм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EA40-D876-4597-B348-9E1D2B2967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й эффект. Как э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копление углекислого газа в атмосфере - одна из основ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ин парникового эффекта. Углекислый газ действует в атмосфере, как стекло в оранжерее: он пропускает солнечную радиацию и не пропускает обратно в космос инфракрасное (тепловое) излучение Зем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3507-30D1-4DF4-91EA-A51E1FCA03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никовые г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Водяной пар — основной естественный парниковый газ, ответственный более, чем за 60 % эффе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Углекислый газ (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CO2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и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сточниками углекислого газа в атмосфере Земли являются вулканические выбросы, жизнедеятельность организмов, деятельность челове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Метан (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CH4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- о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сновными антропогенными источниками метана являются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ищеварительная ферментация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у скота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исоводство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, горение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иомассы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(в т. ч. сведение ле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зон (О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сид углерода (С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фре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F453-E599-4744-8ACA-15C1682BF6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лияние парникового эффекта на климат Зем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27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ду французский физик Жозеф Фурье предположил, что атмосфера земли выполняет функцию своего рода стекла в теплице: воздух пропуска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лнечное тепл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не давая ему при этом испариться обратно в космос. Этот эффект достигается благодаря некоторым атмосферным газам второстепенного значения, каковыми являются, например, водяные испарения и углекислый газ. Они пропускают видимый и «ближний» инфракрасный свет, излучаемый солнцем, но поглощают «далекое» инфракрасное излучение, имеющее более низкую частоту и образующееся при нагревании земной поверхности солнечными лучами. Если бы этого не происходило, Земля была бы примерно 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 градусов холодне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чем сейчас, и жизнь бы на ней практически замер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263F-AD71-465C-8302-3D4FADE1E5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, 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последние 100 л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язи с активной деятельностью челове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доля двуокиси углерода имеет тенденцию роста приблизительно на 25% и средняя температур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емли повысилась 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,7º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Земля нагревается однако неравномерно, температуры на полюсах увеличиваются более экстремально, чем в других областях земли. Если эта тенденция не остановится, то наступят климатические изменения – более долгие периоды засухи, интенсивное выпадение осадков и более мощные ураганы – уровень моря может подняться. Плодородные регионы побережья станут жертвой моря и будут затоплены. Может возникнуть угроза голода и миграции народов с губительными социальными последствиями.  Климат Земли грозит нам еще большими неприятностями, нежели те, что он преподнес в последние годы - катастрофические ураганы, бурные наводнения и жестокие засухи. Они, вероятно, будут повторяться все чаще и станут разрушительнее. Продолжаться это будет до тех пор, пока человечество не найдет способ значительно уменьшить содержание парниковых газов разогревающих атмосфе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3782-6B05-4C7E-BB94-D0657543F1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: основным следствием парникового эффекта является 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1F4B-F0D2-4BBE-BB75-8E3238F66A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E15C-F51B-455F-9999-86D7EC65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BB57-8DF7-44D6-9D55-C5018270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A7A496-7B6B-458A-AC58-35A5E9D9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F0EA29-B92B-4F4F-B541-14C4B2B3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729DA9-2AE1-4C44-9F1B-C3B90B2C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13D9F3-AF11-494B-B3D8-E41F44C4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47E4A0-0D98-4F22-980A-286E06DF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F44E07-2ECF-4082-9437-72635C02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45B417-100C-4C72-8CE4-DD841885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F886A2-4F80-4E5E-BB69-A5F81A96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461372-EF62-4385-9741-AE77365B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05E9B-99F1-4B34-AE35-4A9947B2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EAD-6DA6-4200-8A5A-A278C49B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4D933-1065-47AC-B83C-613A9B93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8A400-29EA-4C95-A917-B108D05C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306F6-9F42-47D9-88BC-72C48733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748A5-88E3-48CF-80C1-2E71D046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2A63A-B894-4212-A94A-79DCF474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373BD-1A2E-4A30-94D6-2C84D3FE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0101E-0CF1-4E01-972B-A70A087C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988BF-19B6-4A08-B882-BE9A5AFB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923A1-4E0E-4B67-AD8A-0B8CFADD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C73D4-33D5-49F3-9872-B6C0378F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8BE5-7377-455E-8FF4-DA55B255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7CCAC-420A-42D7-8D6F-9151B08A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9D423-B803-46D7-900D-9DF394F1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9B067-1074-40FD-A300-767400A0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D1EBD-D025-43C3-A188-3314038E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5ED73-6B6D-4A4F-B433-7DA0F091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B559C-6308-4827-AB2A-8E550F5E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EA7C6-6CDA-4D8F-8EFC-19354650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93E88-F52E-4D75-BB38-3669C730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21029-5A64-4261-80AB-CDF88819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2EE22-CB76-4518-AD85-A502E94D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1EEA-F113-4570-B2D1-E9A6AC32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BD89F-AB67-4E86-ADEA-BC83F5CD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C46B4-9EB8-4D64-9B54-A1F4565B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8D4E0-27C6-49B1-8D87-1612D6FE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8B74B-E9F8-4C3D-854B-E2331519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12AE4-CBBC-4A8E-A31F-82D8A1E7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B3B52-972F-4A3B-9954-8D78305B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9437D-B331-4B4C-9CCC-F54AC9F0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C2FD8-F8CE-443B-B76C-1B6C4302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E63EA-3077-4CD9-8420-4A4E6C68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52AB9-D027-453B-8C35-8A3EB49D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C2FB-AB37-4C60-8636-DFA8C8F6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9001E-7558-41E9-9672-75CD73BA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686E6-6A2C-49F4-AEAF-301D5614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D7605-FECB-4B16-A9BF-13162206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7151B-39A1-4DAD-A6B4-8A7A939A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5FA14-9C92-46C7-9135-EC093E52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DD313E-2D6E-48F0-AF9B-4638D873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1C696D-DA24-4507-8B98-2409D50B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DC2380-938B-42CB-A048-1D994A1D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0C45F4-8DEE-42ED-AD5C-0BD6B242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D3E430-BC39-4026-9B76-90C754B7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895D-4F34-4631-9C12-C8AA3D8F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24BCA-D090-483E-9630-2B5C0F2D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9051B7-7CED-4778-AEBF-4B13C6D3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CFAC5A-0E80-498A-9F7B-BECC5A80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B5B33-F9B2-4A6C-89C5-1BEA75B6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C0235-AA94-48DF-BFB8-457E2E1E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E0168-1749-4648-992A-D1BEC88F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DA71A-97A5-4FC4-8641-C7B19EC7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AFD51C-8875-4D3C-B9CC-C763C5F6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9D304E-0838-4BBA-A0CE-823F3B2F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99B06-887F-4930-824B-A5E5D760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FAE9-F538-4574-BE98-304378D1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87DFE1-150F-416B-8AC7-0E1A31B6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7A6C2-48DD-4516-8CCC-445EE9A9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01301C-0939-4BDC-BDC3-C34B92C7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A719FE-193C-47D8-9038-EDA9C7F9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A8A2FC-0318-44ED-8580-8504711A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165576-5E9E-48D8-964B-E07AEBE4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A951BB-6EBF-44B3-A107-86CCF9F7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4BD3EE-B65B-4CF0-8272-D4B6CF8B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DC2C85-B3CF-4C78-9D68-8D2A4BD2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CD3D-DAF8-400B-ADF8-08066CBD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0924-BFCA-4E97-B1D9-C50C5165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B16A-084D-4E61-9F60-A7800703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892-8571-437B-A426-2A80C550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7B7C-4FA2-44A9-BD39-A9F54F51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B878-D9A2-45B5-B2AC-EFAD8DF2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368E-B208-456D-AF4F-83F437B8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9432-5BA2-4E5C-AA86-78D6F0BF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2726-FD83-4E0E-BA99-64D96FF3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C9517-22B9-43C5-90CF-A26350D5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6D661-D9E9-4499-8594-34B7865E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695E0-49C8-4FF2-BCDF-6800A4DA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5B49A-ADB3-49A6-B3B3-8B010B51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879C8-6F7E-4091-8891-1DA25507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12C1-8725-4124-8101-E6D2D3E0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89E22-11F8-41D4-AA11-6E2EC891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B84BE-D5DB-42F3-8DB5-9B6C13CA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1EEB5-F98B-4D4F-973B-833B4CD0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58C53-33D0-4727-B282-9ACD4962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0D5B3-BDBB-4237-9921-34A3CCC4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79222-B4CF-4D67-AFB5-CB317995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50535-7024-4006-9B3F-2830DC3C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F5FD3D-12FF-4CE7-89BC-E4AD6CBD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402057-B69A-489B-9102-A1293B04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2B8944-DFA2-44DC-A67F-57C884F1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C54C-9683-4647-BDDE-3F29387D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DD51D1-4F39-4B2F-826A-F3114A5D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3B56B7-D762-4DF9-86E0-B3FF14D0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29937-2D0E-4ED7-8A56-1380115C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6CF486-4E73-4364-BD5F-A358B101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78A981-345D-4584-8B49-7C87B1D0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E46ECD-4BA9-4261-A936-C24246D9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F2F956-2001-440C-9A3C-AE02F371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47DDFC-9A6B-4CDE-8438-0BB62788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A38636-F618-42F4-BA9B-71904E3A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25837-5531-4649-90FE-B62B74BA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853E-D5F2-47F9-9A17-3A2DB1FE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537EC-9F65-47BC-86A8-AC4218D6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74E2C-9975-4EBD-A7EB-6F667AC5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11080-B290-41D7-9859-B2A37DF2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51731-D989-4BBF-9881-7064DA24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45642-58DD-4038-9EAC-291709F5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19B4E-50F2-4262-AC1D-9BF2B676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484A9-450D-4685-B37F-EBF7DB6C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73C59-433B-4E7B-8249-62CE0189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F2D39-E0F0-49C0-A75E-73BF5A78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E210C-F746-49DB-A9AE-3DCE0A2A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D62-9742-4253-A5EC-54D56189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9245A-A5EF-4268-9DCE-4497F622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61C95-1CEF-4E60-92AD-F96C1229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03FF6-088A-4333-B226-9DA3D385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C191D-13A7-4102-AB62-69F7061F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ADA5C-CB0F-4F21-BEDA-5DB30831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B6B5B-A6D0-4919-8105-F690C724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2C256-F940-4211-B9EB-1726395B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B0245-2A47-4CE7-ABA9-90B530A9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231FF-E8CC-4107-9369-99111E50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1C393-47C2-4B7A-BCD2-8ABF0994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143-2DB2-4B44-8B3B-419F9640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CDCC9-5FAD-4A62-89D0-12816489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068F8-E776-4A44-8EE7-EEC56C9E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A5B24-CE59-42FE-998A-F69F5FCA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DF733-9214-4A25-9BE6-C5FCEFB20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49ADE-B967-4E3F-A748-B52449C6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9B296-3AC1-40CB-85CB-06384B9B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D56CE-BFE4-4748-9AA0-17A55301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E1001-502E-4CF1-B129-6788958A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2B043-A26E-4A13-A8A8-5BBE85E9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445F5-BBAD-4BBB-A681-FEEB97FD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30A-5AC0-48C3-8281-8956F721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F7A51-0F82-4FAC-8BD8-D80F721E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E25B2-8D15-44BB-9EDF-DFA942DA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A9E78-E7A1-4150-B593-EBF461F7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3A5A3-A885-493B-B6C6-0FB6AA6F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814DE-2341-4442-8CF0-95FB164A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DC568-C3CB-4D1D-ADB2-ADFCA26A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BC8F4-3ACC-4659-9815-3617B8AD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D5B0A-2894-4539-9412-FAADC836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A141A-0590-4D01-84F1-97088856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3EF47-8823-4DA7-B2EE-9AA9EF49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E96-0890-49DC-BF6D-830F2653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DF82E-0DBE-41F2-9DFB-85477325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4C6E9-F5FD-4132-B7C9-F6D1B865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E0CA2-3319-4E47-BCE6-6A023EC2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F4394-532F-4207-8EC4-84333029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571E2-483C-4055-A56F-6C573A08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F0960-D6EC-430F-B1B3-46111CED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C5CE2-5D4C-4333-8AF0-7C1F1EBB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DE5CAE-4E1E-4386-9327-E3DF39FF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640CA3-64D6-42CA-A377-F63DBF7A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556FE9-1974-44CE-B98A-1E06ADAB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9D14-C7CC-4AF7-A1E6-D90E6D450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0779-EED4-4D34-B7DE-4660DBAAF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1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6C7D-D57E-45A4-AC0E-210400CE0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6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6116-1B36-4B86-B0A1-DFEEFED1E4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3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C9DD-411F-4F49-9F9D-7CF911F295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8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8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8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69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1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1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1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BFBA-44B2-48D0-B72C-FE0E0D300D5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5C59-3BB1-40D4-8023-A785BF66C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4A5F-15DE-4762-9C18-D9BE8FDB6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146A-68B4-4207-9A8B-C256E6D7B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83A3-C33D-4B9C-885D-AC91A4B487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EA57-17FC-4350-BEF2-7C02E08BE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6A13-24F0-4880-9274-E4734E4CF9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AB8D-5E64-4B85-B138-FDE1985F6BF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C911-0102-40A8-9A8E-1B1651D09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86;&#1090;&#1086;" TargetMode="External"/><Relationship Id="rId2" Type="http://schemas.openxmlformats.org/officeDocument/2006/relationships/hyperlink" Target="http://ru.wikipedia.org/wiki/&#1071;&#1087;&#1086;&#1085;&#1080;&#1103;" TargetMode="External"/><Relationship Id="rId3" Type="http://schemas.openxmlformats.org/officeDocument/2006/relationships/hyperlink" Target="http://ru.wikipedia.org/wiki/1997" TargetMode="External"/><Relationship Id="rId4" Type="http://schemas.openxmlformats.org/officeDocument/2006/relationships/hyperlink" Target="http://ru.wikipedia.org/wiki/&#1056;&#1072;&#1084;&#1086;&#1095;&#1085;&#1072;&#1103;_&#1082;&#1086;&#1085;&#1074;&#1077;&#1085;&#1094;&#1080;&#1103;_&#1054;&#1054;&#1053;_&#1086;&#1073;_&#1080;&#1079;&#1084;&#1077;&#1085;&#1077;&#1085;&#1080;&#1080;_&#1082;&#1083;&#1080;&#1084;&#1072;&#1090;&#1072;" TargetMode="External"/><Relationship Id="rId5" Type="http://schemas.openxmlformats.org/officeDocument/2006/relationships/hyperlink" Target="http://ru.wikipedia.org/wiki/16_&#1084;&#1072;&#1088;&#1090;&#1072;" TargetMode="External"/><Relationship Id="rId6" Type="http://schemas.openxmlformats.org/officeDocument/2006/relationships/hyperlink" Target="http://ru.wikipedia.org/wiki/1998" TargetMode="External"/><Relationship Id="rId7" Type="http://schemas.openxmlformats.org/officeDocument/2006/relationships/hyperlink" Target="http://ru.wikipedia.org/wiki/15_&#1084;&#1072;&#1088;&#1090;&#1072;" TargetMode="External"/><Relationship Id="rId8" Type="http://schemas.openxmlformats.org/officeDocument/2006/relationships/hyperlink" Target="http://ru.wikipedia.org/wiki/1999" TargetMode="External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6" TargetMode="External"/><Relationship Id="rId2" Type="http://schemas.openxmlformats.org/officeDocument/2006/relationships/hyperlink" Target="http://ru.wikipedia.org/wiki/&#1057;&#1064;&#1040;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80;&#1097;&#1077;&#1074;&#1072;&#1088;&#1080;&#1090;&#1077;&#1083;&#1100;&#1085;&#1072;&#1103;_&#1092;&#1077;&#1088;&#1084;&#1077;&#1085;&#1090;&#1072;&#1094;&#1080;&#1103;&amp;action=edit" TargetMode="External"/><Relationship Id="rId2" Type="http://schemas.openxmlformats.org/officeDocument/2006/relationships/hyperlink" Target="http://ru.wikipedia.org/w/index.php?title=&#1056;&#1080;&#1089;&#1086;&#1074;&#1086;&#1076;&#1089;&#1090;&#1074;&#1086;&amp;action=edit" TargetMode="External"/><Relationship Id="rId3" Type="http://schemas.openxmlformats.org/officeDocument/2006/relationships/hyperlink" Target="http://ru.wikipedia.org/wiki/&#1041;&#1080;&#1086;&#1084;&#1072;&#1089;&#1089;&#1072;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WordArt 5"/>
          <p:cNvSpPr txBox="1"/>
          <p:nvPr/>
        </p:nvSpPr>
        <p:spPr>
          <a:xfrm>
            <a:off x="395280" y="2421000"/>
            <a:ext cx="8569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ледствия парникового эффекта для Земл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8" name="MSj01187.wav" descr=""/>
          <p:cNvPicPr/>
          <p:nvPr/>
        </p:nvPicPr>
        <p:blipFill>
          <a:blip r:embed="rId1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17"/>
          <p:cNvSpPr/>
          <p:nvPr/>
        </p:nvSpPr>
        <p:spPr>
          <a:xfrm>
            <a:off x="6084720" y="4797360"/>
            <a:ext cx="288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зентация по географ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ченицы 11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”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ласс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Буглевской Анн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6235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климата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не можем точно сказать к каким изменениям климата может привести глобальное потепление. Однако, 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мнению многих ученых, если сохранится тенденция глобального потепления, это приведет к изменению погоды и увеличению количества осадков, что, в свою очередь, приведет к подъему уровня Mирового океан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ША и бывшем СССР последние 30-40 лет выпадает осадков на 10 процентов больше, чем в прошл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о же время, количество осадков над экватором сократилась на те же десять процент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лим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Наиболее благоприятные условия для выращивания культур сложатся в сельскохозяйственных регионах России и обильные осадки будут выпадать в Северной Африке, где засуха продолжается с 1970-го года. Кроме того, повышение температуры увеличит испарение влаги с поверхности океана. Это приведет к увеличению выпадения осадков на 11 проц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дствия потепления климата будут ощущаться на Северном и Южном полюсах, где увеличившаяся температура приведет к подтаиванию ледников. По расчетам ученых увеличение температуры на 10 градусов по Цельсию, вызовет повышение уровн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рового океана на 5-6 метров, что приведет к затоплению многих прибрежных территорий во все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Уже сегодня мы сталкиваемся с участившимися климатическими  аномалиями. Это и всё более сильные ураганы и штормы, наводнения, засуха, выпадание снега там, где его никогда не ждали, необычайно тёплые зимы в северных широта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2" name="Picture 4" descr="images3"/>
          <p:cNvPicPr/>
          <p:nvPr/>
        </p:nvPicPr>
        <p:blipFill>
          <a:blip r:embed="rId1"/>
          <a:stretch/>
        </p:blipFill>
        <p:spPr>
          <a:xfrm>
            <a:off x="395280" y="4221000"/>
            <a:ext cx="1944720" cy="223236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5" descr="untitled1"/>
          <p:cNvPicPr/>
          <p:nvPr/>
        </p:nvPicPr>
        <p:blipFill>
          <a:blip r:embed="rId2"/>
          <a:stretch/>
        </p:blipFill>
        <p:spPr>
          <a:xfrm>
            <a:off x="4284720" y="3213000"/>
            <a:ext cx="4572000" cy="3335400"/>
          </a:xfrm>
          <a:prstGeom prst="rect">
            <a:avLst/>
          </a:prstGeom>
          <a:ln w="0">
            <a:noFill/>
          </a:ln>
        </p:spPr>
      </p:pic>
      <p:sp>
        <p:nvSpPr>
          <p:cNvPr id="8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иболее чувствительными к потеплению климата являются ледни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Упсала в Патагонии (Аргентина) был одним из самых больших ледников Южной Америки, но теперь исчезает на 200 метров в год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7" name="Picture 4" descr=""/>
          <p:cNvPicPr/>
          <p:nvPr/>
        </p:nvPicPr>
        <p:blipFill>
          <a:blip r:embed="rId1"/>
          <a:stretch/>
        </p:blipFill>
        <p:spPr>
          <a:xfrm>
            <a:off x="2771640" y="342900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81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043520" cy="283680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4"/>
          <p:cNvSpPr/>
          <p:nvPr/>
        </p:nvSpPr>
        <p:spPr>
          <a:xfrm>
            <a:off x="1332000" y="1706760"/>
            <a:ext cx="63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Роун, Валаис, Швейцария поднялся вверх на 450 метров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4" name="Picture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475160" cy="26208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4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2114640" cy="190512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5"/>
          <p:cNvSpPr/>
          <p:nvPr/>
        </p:nvSpPr>
        <p:spPr>
          <a:xfrm>
            <a:off x="5434200" y="566028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портадж в Аляск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27" name="MSj01250.wav" descr=""/>
          <p:cNvPicPr/>
          <p:nvPr/>
        </p:nvPicPr>
        <p:blipFill>
          <a:blip r:embed="rId3"/>
          <a:stretch/>
        </p:blipFill>
        <p:spPr>
          <a:xfrm>
            <a:off x="716436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2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7590" fill="hold"/>
                                        <p:tgtEl>
                                          <p:spTgt spid="8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иотский протоко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блема влияния парникового эффекта на климат земли является одной из важнейших задач, требующих скорейшего решения. Начальным этапом решения проблемы стали международные договорённости по сокращению выбросов парниковых газов в атмосфер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иотский протоко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иотский протоко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— международный документ, принятый в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Киот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Япо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в декабре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199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года в дополнение к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Рамочной конвенции ООН об изменении клима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 Период подписания протокола открылся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16 мар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199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года и завершился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15 мар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199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4" descr="Picture2"/>
          <p:cNvPicPr/>
          <p:nvPr/>
        </p:nvPicPr>
        <p:blipFill>
          <a:blip r:embed="rId1"/>
          <a:stretch/>
        </p:blipFill>
        <p:spPr>
          <a:xfrm>
            <a:off x="539640" y="1628640"/>
            <a:ext cx="8207640" cy="468000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5"/>
          <p:cNvSpPr/>
          <p:nvPr/>
        </p:nvSpPr>
        <p:spPr>
          <a:xfrm>
            <a:off x="1476360" y="2421000"/>
            <a:ext cx="6983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Киотский протокол стал первым глобальным соглашением об охране окружающей среды, основанным на рыночных механизмах регулирования — механизме международной торговли квотами на выбросы парниковых газ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траны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участницы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Протокола определили для себя количественные обязательства по ограничению либо сокращению выбросов на период с 1 января 2008 до 31 декабря 2012 года. Цель ограничений — снизить в этот период совокупный средний уровень выбросов 6 типов газов (CO2, CH4,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гидрофторуглеводороды, </a:t>
            </a:r>
            <a:r>
              <a:rPr b="0" lang="en-US" sz="1800" spc="-1" strike="noStrike">
                <a:solidFill>
                  <a:srgbClr val="a50021"/>
                </a:solidFill>
                <a:latin typeface="Garamond"/>
              </a:rPr>
              <a:t>перфторуглеводороды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N2O, SF6) на 5,2 % по сравнению с уровнем 1990 год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WordArt 6"/>
          <p:cNvSpPr txBox="1"/>
          <p:nvPr/>
        </p:nvSpPr>
        <p:spPr>
          <a:xfrm>
            <a:off x="2556000" y="620640"/>
            <a:ext cx="40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тали соглашения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География Киотского протокол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 состоянию на 14 февраля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2006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года Протокол был ратифицирован 161 страной мира (совокупно ответственными за более чем 61 % общемировых выбросов). Заметным исключением из этого списка являются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США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1" name="Picture 4" descr="Kyoto"/>
          <p:cNvPicPr/>
          <p:nvPr/>
        </p:nvPicPr>
        <p:blipFill>
          <a:blip r:embed="rId3"/>
          <a:stretch/>
        </p:blipFill>
        <p:spPr>
          <a:xfrm>
            <a:off x="900000" y="2852640"/>
            <a:ext cx="7620120" cy="3524400"/>
          </a:xfrm>
          <a:prstGeom prst="rect">
            <a:avLst/>
          </a:prstGeom>
          <a:ln w="0">
            <a:noFill/>
          </a:ln>
        </p:spPr>
      </p:pic>
      <p:sp>
        <p:nvSpPr>
          <p:cNvPr id="8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то такое парниковый эффек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арниковый эффект. Как он действуе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арниковые газ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лияние парникового эффекта на климат Земл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янье ледников- индикатор потепления клима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иотский протоко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4  мифов о глобальном потеплен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2" name="WordArt 4"/>
          <p:cNvSpPr txBox="1"/>
          <p:nvPr/>
        </p:nvSpPr>
        <p:spPr>
          <a:xfrm>
            <a:off x="1835280" y="549360"/>
            <a:ext cx="5329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держание презентаци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ff"/>
                </a:solidFill>
                <a:latin typeface="Tahoma"/>
              </a:rPr>
              <a:t>Человек с древних времен склонен верить мифам. Часть из них не лишена логики, но все таки большая половина оказывается полным бредом. То же самое и с </a:t>
            </a:r>
            <a:r>
              <a:rPr b="1" lang="en-US" sz="1600" spc="-1" strike="noStrike">
                <a:solidFill>
                  <a:srgbClr val="3399ff"/>
                </a:solidFill>
                <a:latin typeface="Tahoma"/>
              </a:rPr>
              <a:t>глобальным потеплением</a:t>
            </a:r>
            <a:r>
              <a:rPr b="0" lang="en-US" sz="1600" spc="-1" strike="noStrike">
                <a:solidFill>
                  <a:srgbClr val="3399ff"/>
                </a:solidFill>
                <a:latin typeface="Tahoma"/>
              </a:rPr>
              <a:t>. Вот распространенные заблуждения, связанные с ним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). Глобального потепления вообще не происходи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К сожалению происходит. Наукой не раз доказано, а фактами подтверждено, что температура быстро раст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). Глобальное потепление - естественный процес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корее всего нет (повышение температуры, особенно с 70-х годов, намного превышают естественные изменения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). В любом случае последствия будут постепенны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ильные штормы становятся все чаще, а историей доказано, резкое изменение климатических условий может наступить внезапно, буквально за несколько л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5" name="Picture 4" descr="eart-on-fire"/>
          <p:cNvPicPr/>
          <p:nvPr/>
        </p:nvPicPr>
        <p:blipFill>
          <a:blip r:embed="rId1"/>
          <a:stretch/>
        </p:blipFill>
        <p:spPr>
          <a:xfrm>
            <a:off x="6300720" y="4869000"/>
            <a:ext cx="2266920" cy="1989000"/>
          </a:xfrm>
          <a:prstGeom prst="rect">
            <a:avLst/>
          </a:prstGeom>
          <a:ln w="0">
            <a:noFill/>
          </a:ln>
        </p:spPr>
      </p:pic>
      <p:sp>
        <p:nvSpPr>
          <p:cNvPr id="8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). Глобальное потепление приведет к всемирному потоп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Если потепление будет идти теми же темпами, то уровень мирового океана поднимется на 1 метр. Если же допустить, что все ледники растают, что конечно же невозможно, то вода поднимется на 10 метров. И если учесть, что средняя высота суши над уровнем океана - 840 метров, то переживать так сильно по поводу затопления не стои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5). Глобальное потепление - единственная причина резких, непредсказуемых изменений пого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Далеко не единственная. Существует ряд естественных, циклических процессов, к которым глобальное потепление не имеет никакого отношения. И именно они являются тем, что может вызвать резкое потепление или похолодание. Такими факторами могут послужить океанские течения, циклоны, изменение магнитного поля Земли и просто совпад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9" name="Picture 5" descr="small-gletscher"/>
          <p:cNvPicPr/>
          <p:nvPr/>
        </p:nvPicPr>
        <p:blipFill>
          <a:blip r:embed="rId1"/>
          <a:stretch/>
        </p:blipFill>
        <p:spPr>
          <a:xfrm>
            <a:off x="6248520" y="4952880"/>
            <a:ext cx="2895480" cy="1905120"/>
          </a:xfrm>
          <a:prstGeom prst="rect">
            <a:avLst/>
          </a:prstGeom>
          <a:ln w="0">
            <a:noFill/>
          </a:ln>
        </p:spPr>
      </p:pic>
      <p:sp>
        <p:nvSpPr>
          <p:cNvPr id="8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6). Выбросы углекислого газа слишком незначительны, чтобы спровоцировать глобальное потепление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Хотелось бы верить, но пока факты это отрицают. По статистическим данным, которым можно доверять были построены графики концентрации углекислого газа в атмосфере и температуры в это время. Они совпадаю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7). Из-за глобального потепления температура скоро вырастет настолько, что мы все погибнем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е настолько и не скоро. За последние 100 лет температура выросла на 0,7°С, - 1° С. И по самым смелым прогнозам в ближайшие 100 лет может вырасти еще на 4,6° С, но скорее всего это увеличение не превысит 2°С. С меньшей вероятностью, но есть модели, предсказывающие да же похолодани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8). От глобального потепления мы получим только выгод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некоторых районах можно будет порадоваться необычно теплой погодой, но цена негативных последствий превысит любые выгоды. Число болезней и смертей из-за жары выраст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3" name="Picture 4" descr="sity-on-smoge"/>
          <p:cNvPicPr/>
          <p:nvPr/>
        </p:nvPicPr>
        <p:blipFill>
          <a:blip r:embed="rId1"/>
          <a:stretch/>
        </p:blipFill>
        <p:spPr>
          <a:xfrm>
            <a:off x="5003640" y="4952880"/>
            <a:ext cx="3009960" cy="1905120"/>
          </a:xfrm>
          <a:prstGeom prst="rect">
            <a:avLst/>
          </a:prstGeom>
          <a:ln w="0">
            <a:noFill/>
          </a:ln>
        </p:spPr>
      </p:pic>
      <p:sp>
        <p:nvSpPr>
          <p:cNvPr id="8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9). Сельскому хозяйству это будет только на рук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глекислый газ может повысить урожайность ряда культур, но так же возрастет и количество сорняков и вредителей. Растения не смогут хорошо расти на том же месте из-за климатического сдвиг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0). Правительство о нас позаботитс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омимо прянятия Киотского протокола (который только ограничивает выбросы) несколькими странами, исключая США (крупнейший источник вредным выбросов) больше ничего сделано не было. Правительства боятся экономических последствий борьбы с глобальным потепление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1). Проблема не так серьезна, как национальная безопасност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у как посмотреть. Если учесть, что потепление затронет каждого жителя планеты (при чем больно ударив по нему), то думаю будет посерьезн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2). Причины глобального потепления известны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Многие верят, что в глобальном потеплении полностью виновен человек и что только остановив промышленную деятельность, можно избежать катастрофы. В действительности же проблема изменения климата настолько нова, что сейчас невозможно с точностью сказать о ее причинах. То, что оно происходит - это факт, но то что это результат антропогенной деятельности человека далеко не единственная версия. Так, например, существует версия, что это результат естественных процессов, происходящих в системе Солнце - Земля - Космо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3). Мы знаем, как бороться с глобальным потеплением, у нас есть технолог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Стратегический план находится в разработке. Существует несколько масштабных вариантов борьбы с глобальным потеплением, но все они из области фантастики, да и требуют колоссальных вложений, сравнимых с бюджетом США, но лучше много мелких изменений, чем одно большо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4). Мы не можем ничего с этим подела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аждый уже сейчас может внести свой вклад в борьбу с глобальным потеплением хотя бы просто соблюдая рационализм в своей потребительской деятельност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заключении хочется отметить, что существует версия, о том, что влияние парникового эффекта на глобальное  потепление климата не так значительно, а нынешнее потепление – это лишь очередной этап в циклическом изменении климата нашей планеты. Ведь не стоит забывать, что по геологическим меркам последний ледниковый период на Земле был не так уж и дав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парниковый эффект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арнико́вый эффе́к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— повыше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ператур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нижних слоёв атмосферы планеты по сравнению с эффективной температурой, т. е. температурой теплового излучения планеты, наблюдаемого из космос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арниковый эффект. Как это происходит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9" name="Picture 4" descr="CLIMATE_CHANGE"/>
          <p:cNvPicPr/>
          <p:nvPr/>
        </p:nvPicPr>
        <p:blipFill>
          <a:blip r:embed="rId1"/>
          <a:stretch/>
        </p:blipFill>
        <p:spPr>
          <a:xfrm>
            <a:off x="684360" y="3213000"/>
            <a:ext cx="7775280" cy="3456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6" descr="Picture2"/>
          <p:cNvPicPr/>
          <p:nvPr/>
        </p:nvPicPr>
        <p:blipFill>
          <a:blip r:embed="rId2"/>
          <a:stretch/>
        </p:blipFill>
        <p:spPr>
          <a:xfrm>
            <a:off x="684360" y="1197000"/>
            <a:ext cx="7775280" cy="2016000"/>
          </a:xfrm>
          <a:prstGeom prst="rect">
            <a:avLst/>
          </a:prstGeom>
          <a:ln w="0">
            <a:noFill/>
          </a:ln>
        </p:spPr>
      </p:pic>
      <p:sp>
        <p:nvSpPr>
          <p:cNvPr id="781" name="Text Box 7"/>
          <p:cNvSpPr/>
          <p:nvPr/>
        </p:nvSpPr>
        <p:spPr>
          <a:xfrm>
            <a:off x="1619280" y="1557360"/>
            <a:ext cx="6553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Накопление углекислого газа в атмосфере - одна из основных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ричин парникового эффекта. Углекислый газ действует в атмосфере, как стекло в оранжерее: он пропускает солнечную радиацию и не пропускает обратно в космос инфракрасное (тепловое) излучение Земл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4" name="Picture 3" descr="Air_4"/>
          <p:cNvPicPr/>
          <p:nvPr/>
        </p:nvPicPr>
        <p:blipFill>
          <a:blip r:embed="rId1"/>
          <a:stretch/>
        </p:blipFill>
        <p:spPr>
          <a:xfrm>
            <a:off x="468360" y="33336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7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арниковые газы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Водяной пар — основной естественный парниковый газ, ответственный более, чем за 60 % эффек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Углекислый газ (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CO2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сточниками углекислого газа в атмосфере Земли являются вулканические выбросы, жизнедеятельность организмов, деятельность чело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Метан (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CH4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- о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сновными антропогенными источниками метана являются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ищеварительная ферментация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у скота,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рисоводство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, горение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биомассы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(в т. ч. сведение лесов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зон (О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ксид углерода (С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фрео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8" name="Picture 4" descr="140px-Carbon-dioxide-3D-vdW"/>
          <p:cNvPicPr/>
          <p:nvPr/>
        </p:nvPicPr>
        <p:blipFill>
          <a:blip r:embed="rId4"/>
          <a:stretch/>
        </p:blipFill>
        <p:spPr>
          <a:xfrm>
            <a:off x="539640" y="5013360"/>
            <a:ext cx="1333440" cy="87624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5" descr="100px-Methane-3D-space-filling"/>
          <p:cNvPicPr/>
          <p:nvPr/>
        </p:nvPicPr>
        <p:blipFill>
          <a:blip r:embed="rId5"/>
          <a:stretch/>
        </p:blipFill>
        <p:spPr>
          <a:xfrm>
            <a:off x="3995640" y="5157720"/>
            <a:ext cx="952560" cy="7923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6" descr="200px-Ozone_molecule_ball_and_stick"/>
          <p:cNvPicPr/>
          <p:nvPr/>
        </p:nvPicPr>
        <p:blipFill>
          <a:blip r:embed="rId6"/>
          <a:stretch/>
        </p:blipFill>
        <p:spPr>
          <a:xfrm>
            <a:off x="7164360" y="5229360"/>
            <a:ext cx="1368360" cy="79200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7" descr="140px-Carbon-dioxide-2D-dimensions"/>
          <p:cNvPicPr/>
          <p:nvPr/>
        </p:nvPicPr>
        <p:blipFill>
          <a:blip r:embed="rId7"/>
          <a:stretch/>
        </p:blipFill>
        <p:spPr>
          <a:xfrm>
            <a:off x="539640" y="5950080"/>
            <a:ext cx="1333440" cy="68580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8" descr="100px-Methane-2D"/>
          <p:cNvPicPr/>
          <p:nvPr/>
        </p:nvPicPr>
        <p:blipFill>
          <a:blip r:embed="rId8"/>
          <a:stretch/>
        </p:blipFill>
        <p:spPr>
          <a:xfrm>
            <a:off x="4932360" y="5589720"/>
            <a:ext cx="952560" cy="1000080"/>
          </a:xfrm>
          <a:prstGeom prst="rect">
            <a:avLst/>
          </a:prstGeom>
          <a:ln w="0">
            <a:noFill/>
          </a:ln>
        </p:spPr>
      </p:pic>
      <p:sp>
        <p:nvSpPr>
          <p:cNvPr id="7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лияние парникового эффекта на климат Земли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95" name="Picture 4" descr="Picture3"/>
          <p:cNvPicPr/>
          <p:nvPr/>
        </p:nvPicPr>
        <p:blipFill>
          <a:blip r:embed="rId1"/>
          <a:stretch/>
        </p:blipFill>
        <p:spPr>
          <a:xfrm>
            <a:off x="250920" y="1628640"/>
            <a:ext cx="8569080" cy="504036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5"/>
          <p:cNvSpPr/>
          <p:nvPr/>
        </p:nvSpPr>
        <p:spPr>
          <a:xfrm>
            <a:off x="1187280" y="242100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Text Box 7"/>
          <p:cNvSpPr/>
          <p:nvPr/>
        </p:nvSpPr>
        <p:spPr>
          <a:xfrm>
            <a:off x="1116000" y="2492280"/>
            <a:ext cx="712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Ещё в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1827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году французский физик Жозеф Фурье предположил, что атмосфера земли выполняет функцию своего рода стекла в теплице: воздух пропускает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солнечное тепло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не давая ему при этом испариться обратно в космос. Этот эффект достигается благодаря некоторым атмосферным газам второстепенного значения, каковыми являются, например, водяные испарения и углекислый газ. Они пропускают видимый и «ближний» инфракрасный свет, излучаемый солнцем, но поглощают «далекое» инфракрасное излучение, имеющее более низкую частоту и образующееся при нагревании земной поверхности солнечными лучами. Если бы этого не происходило, Земля была бы примерно на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30 градусов холоднее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чем сейчас, и жизнь бы на ней практически замерл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6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нако, з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 последние 100 лет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вязи с активной деятельностью человек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доля двуокиси углерода имеет тенденцию роста приблизительно на 25% и средняя температура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земли повысилась н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,7º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Земля нагревается однако неравномерно, температуры на полюсах увеличиваются более экстремально, чем в других областях земли. Если эта тенденция не остановится, то наступят климатические изменения – более долгие периоды засухи, интенсивное выпадение осадков и более мощные ураганы – уровень моря может подняться. Плодородные регионы побережья станут жертвой моря и будут затоплены. Может возникнуть угроза голода и миграции народов с губительными социальными последствиями.  Климат Земли грозит нам еще большими неприятностями, нежели те, что он преподнес в последние годы - катастрофические ураганы, бурные наводнения и жестокие засухи. Они, вероятно, будут повторяться все чаще и станут разрушительнее. Продолжаться это будет до тех пор, пока человечество не найдет способ значительно уменьшить содержание парниковых газов разогревающих атмосфер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: основным следствием парникового эффекта является глобальное поте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7:48:18Z</dcterms:created>
  <dc:creator> juri</dc:creator>
  <dc:description>ppt.3dn.ru</dc:description>
  <dc:language>en-US</dc:language>
  <cp:lastModifiedBy>LEGION</cp:lastModifiedBy>
  <dcterms:modified xsi:type="dcterms:W3CDTF">2015-05-06T08:07:56Z</dcterms:modified>
  <cp:revision>29</cp:revision>
  <dc:subject/>
  <dc:title>Потепление клима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0a000000000001024140</vt:lpwstr>
  </property>
  <property fmtid="{D5CDD505-2E9C-101B-9397-08002B2CF9AE}" pid="3" name="Version">
    <vt:r8>6</vt:r8>
  </property>
</Properties>
</file>